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FF1-5840-469A-8926-A6064106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7B3-008A-4355-8236-B04C11F4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1B5-C9F6-44FA-9DFB-28873A37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7D1-6621-433C-BD9D-3B72BDA7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51B9-E54C-4181-BD82-2F65D5AC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15F6-A875-4C62-B00E-B8CBD055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414A-D37E-4DE7-B8A0-4C886A84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5DE0-BFA6-4D89-AFA0-15A6CB3A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31EC-2498-4B20-BF34-BB623580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B08C-351B-43FC-B4C5-31E4A51E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C5D5-4255-4985-B16E-B6C9A21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D13-3806-4D89-876B-6A613149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0847-0981-4E57-9B89-9C93F279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8CE1-B612-466A-A36D-BC2852FF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5E4C-40B4-4592-AE12-081EEE01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9CCB-7657-412C-8F29-742D2030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F727-3D59-4706-B21A-04ED0466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4A0-8218-4523-AF3B-3F16CE38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244-08AD-4E97-8DF5-6DAE14A6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478-70FA-4033-889C-6D0C51ED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17A-8970-4BD9-A739-278D6951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49A-F383-4BB3-8319-85F3ED47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63A-1740-4F61-8EBE-FA37EE77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F1A-E0CB-460C-9009-565175C9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3A9F-2854-4AF3-84E3-F730546255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8BC8-F7B0-446A-9F7A-F4D1A73FE1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Me llamo _____________ Clase 6NH</a:t>
            </a:r>
            <a:br>
              <a:rPr sz="3300"/>
            </a:b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La fecha es el 9 de noviembre del 2011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669999"/>
                </a:solidFill>
                <a:latin typeface="Arial"/>
              </a:rPr>
              <a:t>Propósito # 18: 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¿Qué significa el genero y el numero del sustantiv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669999"/>
                </a:solidFill>
                <a:latin typeface="Arial"/>
              </a:rPr>
              <a:t>Actividad Inicial: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vide, clasifica según el numero de silaba, encierra la silaba que tiene el acento y clasifica según el ac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id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6</a:t>
            </a:r>
            <a:r>
              <a:rPr b="0" lang="es-ES" sz="16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Pe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gu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7.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Hie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ocí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8.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levi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ire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9.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Coleg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uen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10.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Escue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669999"/>
                </a:solidFill>
                <a:latin typeface="Arial"/>
              </a:rPr>
              <a:t>El Genero del sustantiv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odo sustantivo (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noun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tiene su género.  Un sustantivo puede ser Masculino o Femenino.  Casi todos los sustantivos masculinos terminan en –O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R o –L.  Casi todos los sustantivos femeninos terminan en –A, -D u  –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rr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erda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tro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s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Correcto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i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ón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669999"/>
                </a:solidFill>
                <a:latin typeface="Arial"/>
              </a:rPr>
              <a:t>Practic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lasifica según su gene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rfil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5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Borr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laver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6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Honest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let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7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an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pel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8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Manz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81160" y="2568600"/>
            <a:ext cx="200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cc00"/>
                </a:solidFill>
                <a:latin typeface="Verdana"/>
              </a:rPr>
              <a:t>Masculi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914400" cy="666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295280" y="5029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181480" y="6114960"/>
            <a:ext cx="6177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669999"/>
                </a:solidFill>
                <a:latin typeface="Arial"/>
              </a:rPr>
              <a:t>El Numero del sustantiv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El número del sustantivo indica la cantidad.  Según su número, las palabras se pueden clasificar en Singular y Plur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Singular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significa que solo hay un sustantivo. (Solo hay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Plur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significa que hay 2 o más sustantiv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rr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rr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Singular                   Plu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Usualmente las palabras que terminan en –S son plurales.    Si terminan en –OS, -LES 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-RES las palabras son masculinas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plur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i terminan en –AS, -DES u –ONES son femeninos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plur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Mante</a:t>
            </a:r>
            <a:r>
              <a:rPr b="0" i="1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les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3000" spc="-1" strike="noStrike">
                <a:solidFill>
                  <a:srgbClr val="cccc00"/>
                </a:solidFill>
                <a:latin typeface="Arial"/>
              </a:rPr>
              <a:t>MP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3000" spc="-1" strike="noStrike">
                <a:solidFill>
                  <a:srgbClr val="cccc00"/>
                </a:solidFill>
                <a:latin typeface="Arial"/>
              </a:rPr>
              <a:t>F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669999"/>
                </a:solidFill>
                <a:latin typeface="Arial"/>
              </a:rPr>
              <a:t>Usa la siguiente tabla para estudiar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719360"/>
          <a:ext cx="8229240" cy="441108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4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Masculi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Femeni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Singul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-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-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-Ó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Plur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R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-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-D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-ON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669999"/>
                </a:solidFill>
                <a:latin typeface="Arial"/>
              </a:rPr>
              <a:t>Practic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lasifica según su genero y nume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rm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Zapati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ormul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aturalez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edi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nsi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gr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tro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90640" y="2209680"/>
            <a:ext cx="200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cc00"/>
                </a:solidFill>
                <a:latin typeface="Verdana"/>
              </a:rPr>
              <a:t>Masculi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45880" y="2209680"/>
            <a:ext cx="122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00080"/>
                </a:solidFill>
                <a:latin typeface="Verdana"/>
              </a:rPr>
              <a:t>pl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41680" y="2803680"/>
            <a:ext cx="19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cc00"/>
                </a:solidFill>
                <a:latin typeface="Verdana"/>
              </a:rPr>
              <a:t>Femeni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9320" y="2819520"/>
            <a:ext cx="16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00080"/>
                </a:solidFill>
                <a:latin typeface="Verdana"/>
              </a:rPr>
              <a:t>sing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6:06:22Z</dcterms:created>
  <dc:creator>Helen Zumaeta</dc:creator>
  <dc:description/>
  <dc:language>en-US</dc:language>
  <cp:lastModifiedBy>Helen Zumaeta</cp:lastModifiedBy>
  <dcterms:modified xsi:type="dcterms:W3CDTF">2011-11-10T01:48:54Z</dcterms:modified>
  <cp:revision>16</cp:revision>
  <dc:subject/>
  <dc:title>6 Intermediate-Mid La fecha es el 22 de febrero del 2010</dc:title>
</cp:coreProperties>
</file>